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6D36-022D-408E-9039-0053B2EEB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BFC4-BFC8-4977-84DC-FA940DE7E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9038-3562-498C-AA44-0F1F59A0E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CA08-338A-45B8-876E-5283A7D7C2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75B9-4D4F-4F48-97FF-5A68994A43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5BC1-29AA-4996-A8F3-A4346C3E2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BF24-EA70-4B55-A664-C8B09BA24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F175-628B-43D7-841F-E4406C6CC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C1BF-9F80-4680-8C82-4FE8FA17E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0B45-FB28-4C1A-A62D-5F165270E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5FA7-EDBA-4E45-9497-04E42744D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C9F2-695A-410A-9544-FBE6F946B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679C-AC4C-425C-9A8C-42A1A005E6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dugains.ca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2AB3-9E07-4F8E-8411-8AC6CA2AF1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1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7720" y="26665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"/>
              </a:rPr>
              <a:t>Pursuing Broader 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Proportional Reaso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000000"/>
                </a:solidFill>
                <a:latin typeface="Arial"/>
              </a:rPr>
              <a:t>Breakout #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 - Guiding Questions to Discus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do you see as the important differences between the curriculum expectation and the learning go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y is it important to make this disti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7B02-E002-4E34-95E2-27330FC96E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6EC2-A412-4C71-848E-7E3ACCC74B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uiding Questions to Discuss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ould you always state the learning goal at the beginning of the lesson?  Why/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do you consider to be the characteristics of a good consolidating ques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9B3D-6051-4746-A03F-5FACBDB6AE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2798-990C-4B07-A3FB-3C6C41A398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Consolidate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erspective Passport / Math Ma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reflect on your learning and next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ord in your Passport or on your Math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2A8C-3817-4733-A65C-15F9BD703C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FD52-ED24-4990-9962-C3B5D02FC5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Learning G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he importance of clearly identify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we want students to know (learning go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 will know that they learned it (consolidating ques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designing lesson frameworks by starting with learning goals and consolidating question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ore proportional reasoning concepts in curriculum docu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2CD0-8681-4889-877B-2C5358DF40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4F1D-19D1-4755-9D75-0198DDF547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ad the article “The House” individ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se a highlighter to highlight </a:t>
            </a:r>
            <a:r>
              <a:rPr b="1" i="1" lang="en-CA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acilitators will visit each table before you begin reading to provide further instru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1A27-1902-41DE-8EFC-C1EA7C933F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AB4B-D1A6-4F95-B3D9-7C92CC28C2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dividually choose what you consider to be the TOP 3 key features that you have highligh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ound Robin – each person will share their TOP 3 with a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jus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me to consensus on your table’s TOP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prepared to share and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just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BEBB-32EA-4BDA-A306-6735BE4928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F76C-9A53-44A2-84BE-D740191295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Minds On ~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are the ‘lens’ that your table was assigne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are your TOP 3 key features of the house with jus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does this activity relate to building Learning Goals and Consolidating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9CCE-4983-402F-8B85-5E4A373BF5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1CB6-9304-437B-964C-37B22AFFD2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Who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Big Ideas and Proportional Reasoning K-1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resource on EduGAINS provides us with samples of how to create and connect Big Ideas, Curriculum Expectations, Learning Goals and Consolidation Question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dugains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CA" sz="2000" spc="-1" strike="noStrike">
                <a:solidFill>
                  <a:srgbClr val="000000"/>
                </a:solidFill>
                <a:latin typeface="Arial"/>
              </a:rPr>
              <a:t>Math GAI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i="1" lang="en-CA" sz="2000" spc="-1" strike="noStrike">
                <a:solidFill>
                  <a:srgbClr val="0000ff"/>
                </a:solidFill>
                <a:latin typeface="Arial"/>
                <a:ea typeface="Arial"/>
              </a:rPr>
              <a:t>Continuum and Connections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→ </a:t>
            </a:r>
            <a:r>
              <a:rPr b="1" i="1" lang="en-CA" sz="2000" spc="-1" strike="noStrike">
                <a:solidFill>
                  <a:srgbClr val="ff0000"/>
                </a:solidFill>
                <a:latin typeface="Arial"/>
                <a:ea typeface="Arial"/>
              </a:rPr>
              <a:t>Big Ideas and Proportional Reasoning K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5B60-80EF-4077-AB60-79481B56CA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A1E2-00C0-45F5-86F4-77516F66C4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3886200"/>
            <a:ext cx="3733920" cy="990720"/>
          </a:xfrm>
          <a:prstGeom prst="cloudCallout">
            <a:avLst>
              <a:gd name="adj1" fmla="val -32907"/>
              <a:gd name="adj2" fmla="val 68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et’s take a look toget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ve to the corner of the room that we have designated for grade 9, 10, 11 or 12 and find someone within your corner who wishes to work on a common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t materials you will need: Chart Paper, Markers, Curriculum Document (hardcopy or online), access to Edu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nd a space to work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2F17-9F4E-42D7-93F3-CF35C12ABC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8A14-9E82-4C61-BEBA-ECEAE6590F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04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20 minutes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CTIVITY: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You are designing the framework for a les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ind an expectation (or cluster of expectations) that addresses proportional reasoning in the course you have cho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n the chart paper, reco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course code and the curriculum expectation(s) cho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learning goal you would have for your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 consolidating question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nk of the broader context and include a statement related to the Big Idea/Enduring Understanding that is addressed by the curriculum expectation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ost your chart paper when you are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0FE8-D1CD-4805-BBAB-6385A9C3B7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8F71-6D90-4D10-87A3-8EFE592B89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2b5ca9"/>
                </a:solidFill>
                <a:latin typeface="Arial"/>
              </a:rPr>
              <a:t>Proportional Reasoning – Breakout 2</a:t>
            </a:r>
            <a:endParaRPr b="0" lang="en-US" sz="36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Action ~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allery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iew one another’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plicitly look for the 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onnect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between the curriculum expectation, learning goal and consolidating question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e sure to ask the ‘artists’ to explain their thinking if you hav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B093-045E-4577-B7E3-60C1E292DA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4075-F353-40D6-8D10-ADED0D5613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cp:keywords/>
  <dc:language>en-US</dc:language>
  <cp:lastModifiedBy>Cheryl</cp:lastModifiedBy>
  <dcterms:modified xsi:type="dcterms:W3CDTF">2011-08-06T16:01:52Z</dcterms:modified>
  <cp:revision>38</cp:revision>
  <dc:subject/>
  <dc:title>&lt;Title&gt;</dc:title>
</cp:coreProperties>
</file>